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A99-2313-454C-A468-95C4D2E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CB4-67BE-42D0-956D-9D5910B4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E7F-14EE-4D22-A8B5-4440639A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E1E-07E9-4BD0-B0C8-29585E00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45FA2-FD36-4ED7-A36F-5647D506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8C549-D4D6-46FD-8EAA-067051A2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5AB6D-1880-4DF9-B0DF-44A417D2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F96F3-914C-44B2-B3FB-4B97593B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E12A2-8430-4C24-81FA-75AE250C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DD83B-44B7-4A92-B2F9-1CBCF1D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C5921-8B24-4564-B185-7F1025E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76C-1EC8-4AF7-BAB2-C20788AC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4D8C2-21B3-4E7A-B28F-8670BAD9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60889-0565-42E0-BE3D-B8C2E387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58F4F-7DFE-4657-9CC7-1830D4D7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B0EF6-F998-4AB4-9C73-919E0E10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40086-4333-4672-BB41-51203F14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199-4962-4312-A1D8-824D5A82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899-60F1-4DD7-BDA0-F41E0953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DFD-696A-4FE2-81F3-6FCEC15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4D6-79C2-4D65-8B8D-52819959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553-EE4F-4F59-B8FB-063F34B5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9AE-1D96-4621-B8D3-82E9BAB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CB5-12C0-42BF-9213-B14561F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7BD-BB00-40F9-81FC-D981D909C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B780-EA34-4DC6-AF94-FD4DE273B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ostreinc.com/articleimages/watch-whales-atlantis-12-06.jpg&amp;imgrefurl=http://laurel700.stumbleupon.com/archive/30/&amp;h=1661&amp;w=1800&amp;sz=546&amp;hl=en&amp;start=1&amp;tbnid=mKg2_qu2_ML4IM:&amp;tbnh=138&amp;tbnw=150&amp;prev=/images%3Fq%3Dwhales%26gbv%3D2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iller Wha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Jackailyn Chaiv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572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 you think Killer Whales are interesting? If so, read to find out more about th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iller Whales are hunters but they don’t attack people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17680"/>
            <a:ext cx="8229600" cy="37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y can get to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15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iller Whales eat fish. Killer Whales can eat other kinds of whal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y are not in their grou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3810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ople call Killer Whales an orca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 call a Killer Whale an orca because it is shor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4734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iller whales have do not have gill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er Whales do not have gills because they have a blow hole on their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388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That’s what Killer whales d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1438200"/>
            <a:ext cx="5000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34:49Z</dcterms:modified>
  <cp:revision>8</cp:revision>
  <dc:subject/>
  <dc:title>Animal Name</dc:title>
</cp:coreProperties>
</file>